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C03D8-32F7-4D8F-B7F4-6536552EA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34A83-8B3C-4612-B890-632C9DEEC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06D6B-BA71-4967-9862-C76BD03BF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B35D7-CA99-4907-A159-715F73006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F4947-7B01-4CC2-BDC3-13A128D70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89FBE-0174-48CE-8DE3-A90A7ACD9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C2F01-61C9-4605-A017-F3BF42DC3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AC577-22EC-493B-AD05-E02C17806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393FB-C6E7-4EF9-B494-0B250641D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986C-D0C8-4CAD-B099-F804864E1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3FA28-0A48-4DEC-8D55-CC8FD5C34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FEBD7-9B69-4215-B85C-F90E63E64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9E73-17E0-44AF-AFBD-C9508EF48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nstruc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Br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s</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th - Abolition of Slav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th - Citizenship and Civil Righ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th - Suffrage for African Americans. (Males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nstruction Plans</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coln’s Plan: Emancipation Proclamation, wanted to reunite the coun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son’s Plan: Adopts the 13th amend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cal Republicans: Ratified the 14th amend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ck Codes</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lled the rights of minoriti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K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Crow La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ed minorities the right to vote, abused and harassed oppress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lessy v. Ferguson</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but equ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ruled in favor of Judge Ferguson and the state of Louisiana. It was justified to have separate things for both black and white as long as they were equ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er T Washington</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order for Blacks to become equal to Whites, they needed to be properly vocational train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n into slavery and was a slave for some of his life and later taught people the importance of a jo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Dubois</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Blacks should push for their social and political rights to become equal to Whi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n in an anti-slavery states, never actually experienced slav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3:43:39Z</dcterms:created>
  <dc:creator>Yarmouth Schools</dc:creator>
  <dc:description/>
  <dc:language>en-US</dc:language>
  <cp:lastModifiedBy>YHS Teacher</cp:lastModifiedBy>
  <dcterms:modified xsi:type="dcterms:W3CDTF">2009-06-15T14:41:28Z</dcterms:modified>
  <cp:revision>3</cp:revision>
  <dc:subject/>
  <dc:title>Reconstruction</dc:title>
</cp:coreProperties>
</file>